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6C9F-DB6A-4C08-9F81-8728F7DED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8342-6FBB-4BD1-9F9C-69B50589B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02EC-C87F-4FE4-BFC9-0E56D9E7E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DF40-AC3C-4FB0-B662-F0FE7EF76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4D94-86E2-48A5-978D-3ACE5499C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CA0A-F3FE-406A-85DB-B83A557C5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5FBE-15E0-47EB-BEDE-CE6269793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45C6-FE57-4556-B181-C73ACAFF5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1911-3FCD-4D58-9E6D-E25FF6E71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561F-FA17-41C2-B876-09EC761C7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0C7E-87AB-4027-A9CC-ACFF46FC2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313A-774A-440C-AA69-FC8F87E2A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A72D-227E-40F4-87A8-4D44991DD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2FEC-234E-46A6-B860-5E7B5830C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0BB9-7AE5-4308-872E-9E2ACCD0F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3361-6991-4EE2-8F4B-36D7E97FD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6F0-5B87-4FB3-B149-4B18A676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AB4-B336-41CC-872B-427F4CCC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BB1-B738-47BC-9954-A8865F3F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FA4-51B9-4C99-A08C-F72D4E42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07C-7614-4290-81A8-A735894E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373-5ACD-456D-99B1-7E80B808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829-00AE-4CB7-B172-2050D1D4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12E-B01C-492F-B3B9-F979D02F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6BE-21FB-40B4-B9AD-28A8AD46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8F77-862A-41F8-98B4-4B79C56F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9EC-2DE2-4144-B0F0-53847BBC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35D-1FEB-42B8-AA92-B65A5310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FAD1-587A-4294-89D7-4CF97CE2D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8084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84E9-C782-4125-A58E-3480F25E4FC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r-FR" sz="4000" spc="-1" strike="noStrike">
                <a:solidFill>
                  <a:srgbClr val="000066"/>
                </a:solidFill>
                <a:latin typeface="Palatino Linotype"/>
              </a:rPr>
              <a:t>Остале терминалне и спроводне анестезије у пределу главе и врата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7720" y="4060440"/>
            <a:ext cx="772020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0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8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Терминалне анестезије коже и слузокоже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Суббазалне анестезиј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</a:t>
            </a:r>
            <a:r>
              <a:rPr b="1" i="1" lang="sr-RS" sz="1400" spc="-1" strike="noStrike">
                <a:solidFill>
                  <a:srgbClr val="000000"/>
                </a:solidFill>
                <a:latin typeface="Palatino Linotype"/>
              </a:rPr>
              <a:t>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5000" y="6180120"/>
            <a:ext cx="786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20</a:t>
            </a:r>
            <a:r>
              <a:rPr b="0" lang="sr-RS" sz="1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0" y="6424560"/>
            <a:ext cx="3753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D078-A618-4E3C-9682-13C190E79EF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Суббазалне спроводне анестезиј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463680" y="1590840"/>
            <a:ext cx="8178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СУББАЗАЛНА СПРОВОДНА АНЕСТЕЗИЈА ЈЕ ТЕХНИКА ЛОКАЛНЕ СПРОВОДНЕ АНЕСТЕЗИЈЕ, КОЈОМ СЕ ЛОКАЛНИ АНЕСТЕТИЧКИ РАСТВОР УБРИЗГАВА У БЛИЗИНИ ОТВОРА НА БАЗИ ЛОБАЊЕ, ЧИМЕ СЕ ПОСТИЖЕ АНЕСТЕЗИЈА СТАБЛА ОДГОВАРАЈУЋЕГ НЕРВА СА СВИМ БОЧНИМ И ЗАВРШНИМ ГРАН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84280" y="3535200"/>
            <a:ext cx="815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Индикациј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псежне операције на горњој или доњој вилици, када уобичајеним техникама спроводних анестезија, није могуће постићи комплетну аналгезију ткива, код пацијената код којих општа анестезија није индикков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локаде одговарајућих нерава различитим супстанцијама ради лечења идиопатске тригеминалне неуралг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0" y="6424560"/>
            <a:ext cx="3780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58D0-E149-4446-9440-0AB40466235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Суббазалне спроводн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463680" y="1565280"/>
            <a:ext cx="8191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ом техником, постиже се анестезија свих грана горњовиличног и доњовиличног живца изузев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n.meningeus medius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. spinosus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који се издвајају још у лобањској јами, инервишући тврде мождан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рибор и опрем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 извођење суббазалне анестезије, потребна је игла дужине 8цм са мандреном, комадић стерилне гумице који служи као гранични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ластична бризгалица од 5мл, интрадермална игла и прибор за цртањ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C:\Users\Zoran\Downloads\anestezija\tale 027.jpg"/>
          <p:cNvPicPr/>
          <p:nvPr/>
        </p:nvPicPr>
        <p:blipFill>
          <a:blip r:embed="rId1"/>
          <a:stretch/>
        </p:blipFill>
        <p:spPr>
          <a:xfrm>
            <a:off x="2921040" y="4430880"/>
            <a:ext cx="2971800" cy="19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0" y="6424560"/>
            <a:ext cx="378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042B-87E0-4ED5-8784-42DB0C45899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Суббазалне спроводн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514440" y="1716120"/>
            <a:ext cx="812808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ГОРЊОВИЛИЧНИ ЖИВ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Место убод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угао између горње ивице јабучног лука и задње горње ивице зигоматичне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равац игл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игла се управља ка унутра ( под углом од око 60° у односу на сагиталну раван ) и нешто наниже у односу на оклузалну раван и потискује тако дуж крова инфратемпоралне ја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Место апликациј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на дубини од око 5цм од коже, када се врх игле налази у горњем делу птеригопалатинске јаме у блиском односу са стаблом горњовиличног нер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0" y="6424560"/>
            <a:ext cx="37116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3228-7FDD-4F65-8AE1-CB9B456920C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Суббазалне спроводн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8" name="Picture 4" descr="anest144"/>
          <p:cNvPicPr/>
          <p:nvPr/>
        </p:nvPicPr>
        <p:blipFill>
          <a:blip r:embed="rId1"/>
          <a:srcRect l="5120" t="7752" r="7396" b="16092"/>
          <a:stretch/>
        </p:blipFill>
        <p:spPr>
          <a:xfrm>
            <a:off x="1403280" y="1703520"/>
            <a:ext cx="642636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0" y="6424560"/>
            <a:ext cx="3753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9355-D7A7-4026-BC8A-FC2DA79426B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Суббазалне спроводн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88880" y="1477800"/>
            <a:ext cx="815364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ДОЊОВИЛИЧНИ ЖИВ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Место убод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непосредно испод средине доње ивице јабучног л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равац игл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управно на кожу. Игла се управља хоризонтално унутра пролазећи изнад инцизуре мандибуле кроз масетерични мишић. На дубини од око 4,5цм, врх игле долази у контакт са спољашним крилом птеригоидног наставка сфеноидне кости где се зауставља. Гумени граничник се доведе до површине коже. Игла се, потом, извлачи до поткожног ткива, што се уочава уздизањем коже, а затим се поново потискује унутра и уназад променивши јој правац за 30° у односу на првобитни до гуменог гранич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0" y="6424560"/>
            <a:ext cx="3780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4C7A-0376-4B93-92C0-DDA27FB62C1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Суббазалне спроводн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463680" y="1577880"/>
            <a:ext cx="812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Место апликациј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дубина до које продире врх игле, претходно је одређена гуменим граничником. Дубина по правилу не прелази 5цм. На тој дубини игла се налази испод овалног отвора, у непосредној близини доњовиличног жив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nest136"/>
          <p:cNvPicPr/>
          <p:nvPr/>
        </p:nvPicPr>
        <p:blipFill>
          <a:blip r:embed="rId1"/>
          <a:srcRect l="13282" t="7434" r="16365" b="5230"/>
          <a:stretch/>
        </p:blipFill>
        <p:spPr>
          <a:xfrm>
            <a:off x="2681280" y="2836800"/>
            <a:ext cx="34196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0" y="6424560"/>
            <a:ext cx="37670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FE51-14E0-4699-AEFF-7A952AB2DEB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Суббазалне спроводн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550800" y="1566720"/>
            <a:ext cx="8153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нестезија за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unctum nervosum co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62080" y="2205000"/>
            <a:ext cx="863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Рunctum nervosum colli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место на средини задње ивице стерно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еидомастоидног мишића на којем сензитивне завршне г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ратног сплета пробијају површни лист вратне фас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C:\Users\Zoran\Downloads\anestezija\punc.bmp"/>
          <p:cNvPicPr/>
          <p:nvPr/>
        </p:nvPicPr>
        <p:blipFill>
          <a:blip r:embed="rId1"/>
          <a:srcRect l="0" t="0" r="0" b="11669"/>
          <a:stretch/>
        </p:blipFill>
        <p:spPr>
          <a:xfrm>
            <a:off x="2709720" y="3243240"/>
            <a:ext cx="35308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0" y="6424560"/>
            <a:ext cx="37670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92B0-F279-47A5-B2E7-9BDECB72C9C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Суббазалне спроводн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550800" y="1566720"/>
            <a:ext cx="8153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нестезија за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unctum nervosum co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1979640" y="2009880"/>
            <a:ext cx="4786200" cy="44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726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645F-881A-44D6-817C-487EB94AC00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рминалне анестезије коже и слузокож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488880" y="1716120"/>
            <a:ext cx="8178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 операције мањих бенигних и малигних тумора коже или слузокоже као и ожиљака на лицу, аналгезија ткива се најчешће постиже локалном инфилтрационом анестезиј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0" y="-720720"/>
            <a:ext cx="30956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0" y="-720720"/>
            <a:ext cx="30956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C:\Users\Zoran\Downloads\anestezija\mbt.bmp"/>
          <p:cNvPicPr/>
          <p:nvPr/>
        </p:nvPicPr>
        <p:blipFill>
          <a:blip r:embed="rId1"/>
          <a:stretch/>
        </p:blipFill>
        <p:spPr>
          <a:xfrm>
            <a:off x="1758960" y="3129120"/>
            <a:ext cx="5962680" cy="28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ate Placeholder 3"/>
          <p:cNvSpPr/>
          <p:nvPr/>
        </p:nvSpPr>
        <p:spPr>
          <a:xfrm>
            <a:off x="0" y="6424560"/>
            <a:ext cx="3726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5745-8E02-401D-8E01-7F436994F26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рминалне анестезије коже и слузокож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0" y="-720720"/>
            <a:ext cx="30956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0" y="-720720"/>
            <a:ext cx="30956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1309680" y="1328760"/>
            <a:ext cx="6524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0" y="6424560"/>
            <a:ext cx="3753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105B-CFCE-4026-8814-0636B143E6C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рминалне анестезије коже и слузокож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463680" y="1841400"/>
            <a:ext cx="8416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случајевима када су патолошке творевине јасно ограничене у кожи (базоцелуларни карциноми, невуси...) и слузокожи (папиломи, леукоплакиа...), анестетичко средство се најпре интракутано, а затим супкутано (односно субмукозно), танком интрадермалном иглом убризга испод пром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тај начин инфилтрисани предео постаје уздигнут у односу на околину коже односно слузокоже. Ова техника се најчешће користи у оралној и максилофацијалној хирург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98280" y="6526080"/>
            <a:ext cx="3726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1070-4EA7-46C6-BDD7-DFDD9F6F374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рминалне анестезије коже и слузокож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585720" y="1790640"/>
            <a:ext cx="812808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се, из било ког разлога, жели избећи инфилтрација места на којем се изводи рез, могу се применити остале технике анестез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виду ром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виду ве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виду пирам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рминалне анестезије коже и слузокож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030E-2D6C-443F-AFF0-46EB9BFFDEF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519120" y="2166840"/>
            <a:ext cx="8128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Анестезија у виду ромба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индикована у случајевима реконструкције дефеката локалним режњевима, у регијама где постоје велике разлике у дебљини поткожног масног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прелаз између капка и образа, назолабијална бразда, прелаз између доње усне и браде...), као и при реконструкцији ожиљака образа мултипним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Z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ластикама када се жели избећи депоновање анестетика у поткожном тки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рминалне анестезије коже и слузокож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BA13-B678-47B4-B453-71193481E1B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501480" y="176688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Анестезија у виду венца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, најчешће примењује у регији скалпа код различитих реконструктивних захвата, као и обраде инфициране 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C:\Users\Zoran\Downloads\anestezija\imagesCAL8VUCF.jpg"/>
          <p:cNvPicPr/>
          <p:nvPr/>
        </p:nvPicPr>
        <p:blipFill>
          <a:blip r:embed="rId1"/>
          <a:srcRect l="423" t="5117" r="0" b="0"/>
          <a:stretch/>
        </p:blipFill>
        <p:spPr>
          <a:xfrm>
            <a:off x="2367000" y="2981160"/>
            <a:ext cx="46162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C0D6-CB14-468E-822F-EFC9A7E4579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рминалне анестезије коже и слузокож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488880" y="2228760"/>
            <a:ext cx="8129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хника рада се огледа у томе што се игла лагано увлачи  под кожу, у жељеном правцу, уз истовремено убризгавање локалног анестетичког рас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гла се, поново, убада на месту које је претходно било анестезирано, и затим даље увлачи под кожу у истом правцу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 радња се понавља све док се не направи венац од анестезиране коже и потко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0" y="6424560"/>
            <a:ext cx="3794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8BCB-9D4A-46E6-A76C-3351B2B147C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рминалне анестезије коже и слузокож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514440" y="1866960"/>
            <a:ext cx="831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 операцију мањих бенигних, јасно ограничених тумора вр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оже се применити тзв. </a:t>
            </a:r>
            <a:r>
              <a:rPr b="0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анестезија у виду пирам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на се изводи са четири коса убода из четири правца оперативног поља, тако да се локални анестетички раствор убризгава с периферије према једној тачки у дубини до које допиру сва четири прав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Stefan</cp:lastModifiedBy>
  <dcterms:modified xsi:type="dcterms:W3CDTF">2020-01-30T11:43:52Z</dcterms:modified>
  <cp:revision>534</cp:revision>
  <dc:subject/>
  <dc:title>      NAZIV PREDAVANJA</dc:title>
</cp:coreProperties>
</file>